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699-39D1-486B-9170-ADC9750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AF7-3634-4D22-A669-68867343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E42-394A-462B-9E1E-448BC0F2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0C9-40F2-47D4-9DF9-C813D462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BE1-C6BE-45C2-AFE3-35F210E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F91-D1AD-4112-B41F-1DE7478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C4E-7467-4FDE-8E47-DA2BB8DE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A40-DE82-4CD5-91EF-8AE47CD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43A-6E99-4372-8348-32CE7C96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4F6-69E2-402E-A399-719F053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7F0-3DA6-450F-9B95-C783962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340-C83F-40F0-A30C-89532CE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E471-99D2-4A8C-B101-966C06F03F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403280" y="3789360"/>
            <a:ext cx="3889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You could use a GDC to plot the graph of the fun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901800" y="2457360"/>
            <a:ext cx="82296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3"/>
          <a:stretch/>
        </p:blipFill>
        <p:spPr>
          <a:xfrm>
            <a:off x="5572080" y="3060720"/>
            <a:ext cx="296856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4"/>
          <a:stretch/>
        </p:blipFill>
        <p:spPr>
          <a:xfrm>
            <a:off x="6278400" y="4840200"/>
            <a:ext cx="2243160" cy="517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1060560" y="534024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773360" y="4900680"/>
            <a:ext cx="805968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957240" y="454176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84160" y="40784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944640" y="349236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1182600" y="309096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1"/>
          <a:stretch/>
        </p:blipFill>
        <p:spPr>
          <a:xfrm>
            <a:off x="895320" y="2646360"/>
            <a:ext cx="80535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341280" y="228600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3"/>
          <a:stretch/>
        </p:blipFill>
        <p:spPr>
          <a:xfrm>
            <a:off x="927000" y="4065480"/>
            <a:ext cx="8051760" cy="787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927000" y="346248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927000" y="3017880"/>
            <a:ext cx="80517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2:44Z</dcterms:created>
  <dc:creator/>
  <dc:description/>
  <dc:language>en-US</dc:language>
  <cp:lastModifiedBy/>
  <dcterms:modified xsi:type="dcterms:W3CDTF">2011-12-08T11:42:49Z</dcterms:modified>
  <cp:revision>1</cp:revision>
  <dc:subject/>
  <dc:title/>
</cp:coreProperties>
</file>